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F1E-C41F-4181-AB4F-6AD90AA9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466-6A23-4E54-BDC1-F3ED1A82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26A-2B68-4DE4-9897-E70BD846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A4E-8D62-4F89-B7DE-E2D5528A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F8A1-DB7F-4AE9-99CC-19869EAA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2D85-F8C3-42FE-9D6F-9FCD8050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6525-F5EB-4A75-87A4-DC95EED8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E739-144B-490E-93AB-96FDBAD9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675B-6F29-4106-9307-F168729A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CE28-2D51-401C-B62C-A4922E97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3854-6ED6-4CF5-9430-C874ED39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776-80E0-42EA-8751-9C01D7FE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81EA-5B21-4D36-AF0D-38A65563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2B79-F19F-45CB-AE45-5A233843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649E-A4E0-4E54-A016-00F14C2F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E6C7-45E6-4A04-B28B-DED3E32B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709B-63DF-48F2-9884-50594420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5DF-ABF3-497B-85A6-2A40B8F9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309-E8E7-413C-8C56-0D3731AC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1FC-F057-4F82-B2DF-EB82AC69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608-0799-471F-AAB3-57CCC796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3BD-4679-46FB-8209-85D5DB41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00E-23BE-43A1-BF9E-CEE78AD8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7D6-8B99-45AF-8799-1EFACA6F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08A4-5A72-4BD7-A2BB-23E3C43879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853B-1266-4E54-B76E-441392096A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32000" y="20336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UŁAMKI NA 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OSI LICZBOWE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8190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aznacz na osi liczbowej punkt A o współrzędn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767720" y="638280"/>
                <a:ext cx="271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1827360" y="2933640"/>
          <a:ext cx="5433840" cy="1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2933640"/>
                    <a:ext cx="543384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878280" y="3068640"/>
                <a:ext cx="2444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851280" y="25671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0621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0621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06640" y="4419720"/>
            <a:ext cx="51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 wskazuje na ile części należy podzielić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dcinek jednostkow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atomiast jaka jest odległość punktu od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ze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CHEMAT ZAZNACZANIA UŁAMKÓW NA OSI LICZBOW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0920" y="139716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ysujemy oś liczb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1808280"/>
            <a:ext cx="51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Zaznaczamy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unkt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dcinek jednostk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214720"/>
            <a:ext cx="73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Odcinek jednostkowy dzielimy na tyle części ile jest zapisane w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 tym przypadku mamy podzielony odcinek jednostkowy na 6 czę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159000"/>
            <a:ext cx="67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Zaznaczamy ułamek na osi liczbowej zaznaczamy 5 części tak jak mówi nam o ty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46280" y="4915080"/>
          <a:ext cx="5433840" cy="14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4915080"/>
                    <a:ext cx="5433840" cy="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411280" y="50878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50878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57720" y="5049720"/>
                <a:ext cx="2444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59:26Z</dcterms:modified>
  <cp:revision>41</cp:revision>
  <dc:subject/>
  <dc:title>Slajd 1</dc:title>
</cp:coreProperties>
</file>